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B425-717D-40DB-95B1-D80177D10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0E00-6A81-4E5B-A734-A11E19F5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5C9E-7368-45EF-AE56-4FCEDB103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3F02-2D2F-4C4D-B7F3-45794B3A5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B6A9-42D7-48F0-ABCE-961ABBEB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84E8-8319-4CEF-B33C-BAC28087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075F-A8AE-4645-B840-6E4A24BB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2505-A64C-46E8-81F0-21BBC92C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9407-8254-4FDC-930A-D3723481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5F12-3BA2-4653-8375-59DEA62B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0280-FB80-4B32-B237-663AF166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E1B6-5752-443B-A4BC-666CFD28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EC56-C85D-4CE7-B866-49809C3E4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6873" t="24002" r="21251" b="10000"/>
          <a:stretch/>
        </p:blipFill>
        <p:spPr>
          <a:xfrm>
            <a:off x="152280" y="1066680"/>
            <a:ext cx="8763120" cy="5029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86400" y="1981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b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 flipV="1">
            <a:off x="761760" y="2666880"/>
            <a:ext cx="1066680" cy="1371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1148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in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4876560" y="3809880"/>
            <a:ext cx="10666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638680" y="27432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b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4647960" y="2971800"/>
            <a:ext cx="10666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4571640" y="2286000"/>
            <a:ext cx="10666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67280" y="3581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b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943600" y="4267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b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4800240" y="4495680"/>
            <a:ext cx="10666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51055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b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4876560" y="5181480"/>
            <a:ext cx="10666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152280"/>
            <a:ext cx="7772400" cy="91692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 need A comparison for each element of an  entered list  which depending on the first two letters' can let me send them to one of the sub list ,example if “P” &amp; “B” than put it in the second sub l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09480" y="762120"/>
            <a:ext cx="3276720" cy="1676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4:39:18Z</dcterms:created>
  <dc:creator>za04499</dc:creator>
  <dc:description/>
  <dc:language>en-US</dc:language>
  <cp:lastModifiedBy>za04499</cp:lastModifiedBy>
  <dcterms:modified xsi:type="dcterms:W3CDTF">2009-03-06T07:04:02Z</dcterms:modified>
  <cp:revision>3</cp:revision>
  <dc:subject/>
  <dc:title>Slide 1</dc:title>
</cp:coreProperties>
</file>